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6138-86E7-443F-8800-574477655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F5A6-D2E4-456E-A5D7-4024D986D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ACDF-F2B4-462A-B01F-DF99FEC6F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9C15-B8DC-49D5-A85C-91B80E17F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D325-E807-49D1-8FED-2B36050F5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B344-E697-4407-AC6B-E043F6E10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6BE5-61B7-4648-9636-F10EE304C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94FF-2A80-4939-A0B3-445848F3D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BF51-F8BF-4553-97D2-3BF6AA787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9BCD-E774-4E27-9C19-7BF63C7DC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086B-D490-4100-874E-789C1A8A7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BDFD-0A40-4F6D-A1F3-827EEB1D5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BA3F-5BAD-4593-936A-CBF14B927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497A-E053-4CC3-B4C1-EDA0CD993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E394-5B24-418F-A19B-2C3B91DAC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5C7D-6F2F-4F4D-934E-CE0E9DB1F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7E82-D37D-4322-9104-F06469924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9C55-E2B0-4ADE-8201-DAE0F97BA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C9BB-9B8C-44DE-B9CB-1A4B2FC75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1456-91CC-49A2-8164-827A81FA4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73F3-623D-4595-BF7E-B9DB469FE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3972-6956-46F5-ABEF-2ABBC84CC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7285-B062-46D7-9AA4-B001C8BAB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AE44-5D77-4852-B67B-9D7681FE7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058A-EF4E-40E7-9841-033FD64AD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8E76-028D-439B-B827-5D056A0A2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5140-15E2-4873-8A04-D4F7EDC77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4174-C28E-4B14-BE84-2F9917232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5FEF-2D4F-47E7-9A26-B32082C6C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E9BD-5C8F-4677-8FA3-836761393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A3F7-F6F6-4299-82C6-5E3E45F2D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8470-CFF7-4296-B644-8F47F5DC3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5CFF-B398-4849-8A2E-F4A79DB55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2F13-D653-43AD-BE4D-7A3580A93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1CC8-498E-468A-9CD5-A50C45070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785A-CF30-474D-B7DD-C264A65D0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3B72-D341-4B9C-B0F6-4CD3D9685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828A-5F1E-49EB-9B4A-F64FC5DA4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992F-4B2A-4DE1-97FE-D7BBF1D49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E843-A60F-4C30-8854-04738A08A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C83F-3781-47C6-9F9A-6CA047F8E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6634-BDC0-481A-83F1-9A8BEA48C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7EAF-DD6C-489D-8685-03BEC7F0D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F551-6A98-4F4B-ABBC-0FFF4F132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A536-7007-4174-8F93-CE39D72F6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C778-DC55-473F-883E-D5306ECD8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4154-17BD-4484-B0BA-56D37F876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DEEA-C99A-4DB2-8632-5EBABF3D2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EC18-419B-4475-BEA9-40B1259EB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F2F1-DE4B-4349-BC9C-EC58F533F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A5F6-0DCC-4A9E-9ABE-4C1531B30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2C9B-C632-46B5-8A6C-771B796F9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0EB0-E650-4F20-A814-B28BDFBFD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69D2-D475-4085-8849-B1791743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E03F-6B79-40C2-98A0-479789508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5152-0E86-434F-B08F-9E4C6D5E9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1B38-2BB7-4AD7-899F-3D2B0640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0F1D-81FD-4484-8083-601CE23F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011F-5207-4E78-8F53-39A4779D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F083-1891-40F9-967E-1796D26C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E0F3-F69C-4B47-9B4B-062A8BCC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3688-B177-4EBE-BCA2-0872BF92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4D23-20A9-453A-99A9-B8142397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8102-9999-45B2-BBF9-10EFF604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02DE-CFEB-47CE-BEEA-4B00EC607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2.xml"/><Relationship Id="rId11" Type="http://schemas.openxmlformats.org/officeDocument/2006/relationships/slide" Target="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6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20.xml"/><Relationship Id="rId18" Type="http://schemas.openxmlformats.org/officeDocument/2006/relationships/slide" Target="slide20.xml"/><Relationship Id="rId19" Type="http://schemas.openxmlformats.org/officeDocument/2006/relationships/slide" Target="slide22.xml"/><Relationship Id="rId20" Type="http://schemas.openxmlformats.org/officeDocument/2006/relationships/slide" Target="slide22.xml"/><Relationship Id="rId21" Type="http://schemas.openxmlformats.org/officeDocument/2006/relationships/slide" Target="slide24.xml"/><Relationship Id="rId22" Type="http://schemas.openxmlformats.org/officeDocument/2006/relationships/slide" Target="slide24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8.xml"/><Relationship Id="rId26" Type="http://schemas.openxmlformats.org/officeDocument/2006/relationships/slide" Target="slide28.xml"/><Relationship Id="rId27" Type="http://schemas.openxmlformats.org/officeDocument/2006/relationships/slide" Target="slide30.xml"/><Relationship Id="rId28" Type="http://schemas.openxmlformats.org/officeDocument/2006/relationships/slide" Target="slide30.xml"/><Relationship Id="rId29" Type="http://schemas.openxmlformats.org/officeDocument/2006/relationships/slide" Target="slide32.xml"/><Relationship Id="rId30" Type="http://schemas.openxmlformats.org/officeDocument/2006/relationships/slide" Target="slide32.xml"/><Relationship Id="rId31" Type="http://schemas.openxmlformats.org/officeDocument/2006/relationships/slide" Target="slide34.xml"/><Relationship Id="rId32" Type="http://schemas.openxmlformats.org/officeDocument/2006/relationships/slide" Target="slide34.xml"/><Relationship Id="rId33" Type="http://schemas.openxmlformats.org/officeDocument/2006/relationships/slide" Target="slide36.xml"/><Relationship Id="rId34" Type="http://schemas.openxmlformats.org/officeDocument/2006/relationships/slide" Target="slide36.xml"/><Relationship Id="rId35" Type="http://schemas.openxmlformats.org/officeDocument/2006/relationships/slide" Target="slide38.xml"/><Relationship Id="rId36" Type="http://schemas.openxmlformats.org/officeDocument/2006/relationships/slide" Target="slide38.xml"/><Relationship Id="rId37" Type="http://schemas.openxmlformats.org/officeDocument/2006/relationships/slide" Target="slide40.xml"/><Relationship Id="rId38" Type="http://schemas.openxmlformats.org/officeDocument/2006/relationships/slide" Target="slide40.xml"/><Relationship Id="rId39" Type="http://schemas.openxmlformats.org/officeDocument/2006/relationships/slide" Target="slide42.xml"/><Relationship Id="rId40" Type="http://schemas.openxmlformats.org/officeDocument/2006/relationships/slide" Target="slide42.xml"/><Relationship Id="rId41" Type="http://schemas.openxmlformats.org/officeDocument/2006/relationships/slide" Target="slide44.xml"/><Relationship Id="rId42" Type="http://schemas.openxmlformats.org/officeDocument/2006/relationships/slide" Target="slide44.xml"/><Relationship Id="rId43" Type="http://schemas.openxmlformats.org/officeDocument/2006/relationships/slide" Target="slide44.xml"/><Relationship Id="rId44" Type="http://schemas.openxmlformats.org/officeDocument/2006/relationships/slide" Target="slide46.xml"/><Relationship Id="rId45" Type="http://schemas.openxmlformats.org/officeDocument/2006/relationships/slide" Target="slide48.xml"/><Relationship Id="rId46" Type="http://schemas.openxmlformats.org/officeDocument/2006/relationships/slide" Target="slide48.xml"/><Relationship Id="rId47" Type="http://schemas.openxmlformats.org/officeDocument/2006/relationships/slide" Target="slide50.xml"/><Relationship Id="rId48" Type="http://schemas.openxmlformats.org/officeDocument/2006/relationships/slide" Target="slide50.xml"/><Relationship Id="rId49" Type="http://schemas.openxmlformats.org/officeDocument/2006/relationships/slideLayout" Target="../slideLayouts/slideLayout1.xml"/><Relationship Id="rId5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12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13">
            <a:hlinkClick r:id="rId33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14">
            <a:hlinkClick r:id="rId35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15">
            <a:hlinkClick r:id="rId37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16">
            <a:hlinkClick r:id="rId39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4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117">
            <a:hlinkClick r:id="rId41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4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18">
            <a:hlinkClick r:id="rId43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4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19">
            <a:hlinkClick r:id="rId45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4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20">
            <a:hlinkClick r:id="rId47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4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Roma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Beginning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ig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f Emp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mpe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Ro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4 seas are located around the bo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1029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riatic, Tyrrhenian, Ionian &amp; Mediterrane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2209320"/>
            <a:ext cx="7238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re did the Romans get their alphabe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ee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90720" y="1980720"/>
            <a:ext cx="7238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early people did the Romans have to compete/deal with that gave them military strateg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rusc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o ruled Rome for 100yrs or until 509 B.C. before it was a Republ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05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arqu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type of government did the Romans u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05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presentative Democra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jor river used by Rom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3300"/>
                </a:solidFill>
                <a:uFillTx/>
                <a:latin typeface="Times New Roman"/>
              </a:rPr>
              <a:t>DAILY DOUB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was considered the best Roman dictator &amp; like Washing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ncinn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ity that attacked Rome from N.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th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wo brothers that wanted to give back to po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berius &amp; Gai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long did Pax Romana las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00 yea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ave out food and had entertai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d &amp; Circ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ber ri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ount of good Emperor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 100 points if you can name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mperor of two na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vian &amp; Augus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mperor that Built a w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dr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wo Emperors that used fear and crue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ro and Caligu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moted art &amp; science, aided orph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toninus Pi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oman Republic/Empire started in modern day______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724280" y="2895480"/>
            <a:ext cx="165240" cy="432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001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s killed by his guards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 100 points if you can name the guards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228600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igula (praetorian guard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omans got their architectural style from th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ee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5" descr="Roman_Aqueduct"/>
          <p:cNvPicPr/>
          <p:nvPr/>
        </p:nvPicPr>
        <p:blipFill>
          <a:blip r:embed="rId1"/>
          <a:stretch/>
        </p:blipFill>
        <p:spPr>
          <a:xfrm>
            <a:off x="1905120" y="2514600"/>
            <a:ext cx="5367240" cy="4024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queduc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rich lived in houses called thi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l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mans could do this as long as they didn’t threaten the governme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ig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a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wo Famous Roman Wri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gil &amp; Ho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geographical feature is Ital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307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________ runs from North to South in Ita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ennines Mt. r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jobert</cp:lastModifiedBy>
  <dcterms:modified xsi:type="dcterms:W3CDTF">2014-05-19T15:27:53Z</dcterms:modified>
  <cp:revision>56</cp:revision>
  <dc:subject/>
  <dc:title>No Slide Title</dc:title>
</cp:coreProperties>
</file>